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77531"/>
        <c:axId val="37741930"/>
      </c:barChart>
      <c:catAx>
        <c:axId val="13077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41930"/>
        <c:crosses val="autoZero"/>
        <c:auto val="1"/>
        <c:lblAlgn val="ctr"/>
        <c:lblOffset val="100"/>
        <c:noMultiLvlLbl val="0"/>
      </c:catAx>
      <c:valAx>
        <c:axId val="37741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77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1AF-2A5A-4CFB-9A2A-013B60BB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2D5-0185-40AF-977C-0731D036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D60-4541-479F-AD48-207E7103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843-BADF-43B6-A3CA-7D4A4B17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270-CD3E-427B-A2AA-FF689B7A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E88-D8B9-4C61-9CC0-BBA38F2E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72C-AC8C-4099-A998-7DFCE058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DAB-52CD-419D-9721-CE46DE2D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D55-1224-4970-BE23-70E9010A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182-F9F2-483D-A23D-937C92BA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CCC-6130-42A7-B944-F543CA5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4E3-4676-4451-9618-5979D044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44DD1-A9BB-4FEC-9E32-F50FF6EA83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