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44149"/>
        <c:axId val="76792501"/>
      </c:barChart>
      <c:catAx>
        <c:axId val="57144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92501"/>
        <c:crosses val="autoZero"/>
        <c:auto val="1"/>
        <c:lblAlgn val="ctr"/>
        <c:lblOffset val="100"/>
        <c:noMultiLvlLbl val="0"/>
      </c:catAx>
      <c:valAx>
        <c:axId val="76792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44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358-6C9E-409A-ACAA-D77818E3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E79-37E2-4196-B107-F7452E05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CD9-0C10-41C4-A21E-DBFC23DB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2B2-8EB4-4DDA-BAC3-5E4C5B87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578-2268-4A6D-98DD-18588B8B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5BD-4F54-405C-A1CC-89A167C4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C92-B95E-4568-8E14-1776248D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585-BDE9-4161-8888-F79EC4CB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D064-6174-4FA9-A04A-54BCD314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E0E-DDDC-4E3F-8A52-6E777DC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DE2-AB6C-41C2-8EC6-5F2C4415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631-32F5-46C8-90B9-C551A035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1BD24-0B85-41B6-B2AC-5F0757C096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