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5232"/>
        <c:axId val="10494636"/>
      </c:barChart>
      <c:catAx>
        <c:axId val="9055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94636"/>
        <c:crosses val="autoZero"/>
        <c:auto val="1"/>
        <c:lblAlgn val="ctr"/>
        <c:lblOffset val="100"/>
        <c:noMultiLvlLbl val="0"/>
      </c:catAx>
      <c:valAx>
        <c:axId val="10494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5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C10-9C78-4AE6-B693-4A65AE75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74F-A3AB-4124-B27C-5BE4679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04B-3B67-4EC3-8548-4DAA7A01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D64-2BD9-48A9-90AE-B3A2D7C0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47D-26D5-4381-8C28-3764B520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36B-3A35-429B-A304-FA2EA0FD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B02-EA97-45BC-9DD0-07C45090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CBB-AB80-48F2-BA76-36AE889F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64E-7456-4C5B-96C5-766F93D8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62D-D854-4A6A-808E-9471F9A9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11D-21CB-4F02-AF4C-9FDCC52C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507-12FB-4A13-BC4B-13E67E09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A2F03-3F4E-41FC-BE3C-4ECD8A802F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