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75211"/>
        <c:axId val="33505671"/>
      </c:barChart>
      <c:catAx>
        <c:axId val="66575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05671"/>
        <c:crosses val="autoZero"/>
        <c:auto val="1"/>
        <c:lblAlgn val="ctr"/>
        <c:lblOffset val="100"/>
        <c:noMultiLvlLbl val="0"/>
      </c:catAx>
      <c:valAx>
        <c:axId val="33505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75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B24-8C6E-4F11-9029-82179C19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C59-6C10-4109-8591-4DFDCA69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AA7-0640-4127-82E5-6383651E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849-9ED7-4EED-A31A-D8BFA37F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B71-75F2-4CB2-A660-A234068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2E0-2723-4A96-84AF-10049CDA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33-91E2-4D04-9E83-962A864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6DD-BBFE-4099-BDBE-CC60E61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E55-73DB-447C-A2AD-5B270B7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9CF-2141-44EF-A491-FB5C40C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442-F211-46FC-8930-9112B60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E87-FC26-4CB4-853C-63166B6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859E8-F311-4A2B-8DB6-791A8248C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