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73982"/>
        <c:axId val="95410195"/>
      </c:barChart>
      <c:catAx>
        <c:axId val="59873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10195"/>
        <c:crosses val="autoZero"/>
        <c:auto val="1"/>
        <c:lblAlgn val="ctr"/>
        <c:lblOffset val="100"/>
        <c:noMultiLvlLbl val="0"/>
      </c:catAx>
      <c:valAx>
        <c:axId val="95410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3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E67-95C0-4ACA-96A9-122022C8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418-554E-4176-AB6B-485DF4B2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108-A0A7-4DCE-A2AC-397C2F9A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4D9-59B6-4A6B-96E0-637CABD8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6E5-CAE4-4749-883D-8E2E855C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EDD-0612-4504-946A-001CE19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127-4AA4-4E41-8590-AA8E351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3F8-FC20-4660-BB5F-F8BB047D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BAA-514D-42BD-82A2-51B55DE5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ACC-3377-4FB7-830F-CDC72476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3E1-E82F-47FA-A22E-1D15140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F03-99BF-4D22-85A4-024269A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99FF0-FF09-44EE-BE52-8E3DD2506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