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58812"/>
        <c:axId val="81471407"/>
      </c:barChart>
      <c:catAx>
        <c:axId val="85458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71407"/>
        <c:crosses val="autoZero"/>
        <c:auto val="1"/>
        <c:lblAlgn val="ctr"/>
        <c:lblOffset val="100"/>
        <c:noMultiLvlLbl val="0"/>
      </c:catAx>
      <c:valAx>
        <c:axId val="81471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58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A68-8AD1-4EC6-9AEC-90EC09D9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725-627C-497E-B3BA-012DE4BB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F77-F3C5-4F2E-9E51-C6445113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2BD-3E40-4E51-9FF7-0F4284A1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EA3-6EA9-41E5-B198-4A39ECF9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657-F6C7-4F4D-8123-A9C174C3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49AF-AF15-4823-8DED-F5EBBC1C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77A-3C59-4CB9-8E6A-8AD34806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19CD-CCBE-4812-A0E0-0F11009C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042-1B84-4A7E-BEFA-0D3C5CDD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C73-1F26-4F71-8758-F35EC1E8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762-FBA8-4F21-947C-D711A029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3C6B8-8CB1-460B-AACF-2F73FC7A3D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