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05510"/>
        <c:axId val="13466367"/>
      </c:barChart>
      <c:catAx>
        <c:axId val="17305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6367"/>
        <c:crosses val="autoZero"/>
        <c:auto val="1"/>
        <c:lblAlgn val="ctr"/>
        <c:lblOffset val="100"/>
        <c:noMultiLvlLbl val="0"/>
      </c:catAx>
      <c:valAx>
        <c:axId val="13466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5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E98-90F6-4FF4-80A2-8E42ECF1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B77-D4B3-47AD-9C58-D95F6EC1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59F-3B31-45C7-ADC0-20161296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F8C-D7AD-4AEB-AF7D-DEAA675A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962-49AB-4340-9E88-D168600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853-AB65-448A-9837-E6CE63C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A92-F4BE-4980-BBA0-57DEEB6F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7A7-D9F5-4094-ADBB-7AE85FC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D05-D522-4252-9890-EA1FE24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ADF-EE98-4CE6-BDAD-93C2F32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AF3-B0C1-4C3C-BCFC-B1EB02C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6AE-1A2A-43CF-AE0A-8D128FE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E7A34-D155-40DF-8F6C-83E0283DC4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