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52306"/>
        <c:axId val="84928287"/>
      </c:barChart>
      <c:catAx>
        <c:axId val="96952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28287"/>
        <c:crosses val="autoZero"/>
        <c:auto val="1"/>
        <c:lblAlgn val="ctr"/>
        <c:lblOffset val="100"/>
        <c:noMultiLvlLbl val="0"/>
      </c:catAx>
      <c:valAx>
        <c:axId val="84928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52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9C1-125F-45FB-B96C-537A9C04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0EE8-E09C-4A14-939F-DCFA74AB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34B-4E2D-4E4C-B120-17444D45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721-6CFA-4220-B7B7-E71C85CA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B73-430F-44CE-A454-2AAEB774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9BB-FEA2-4567-95F1-4C1504C8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429-C889-4FA2-9ABB-0C2E84E8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158-E393-4060-BB34-C67900D0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2D7-DB75-4C57-9ADF-7A5398DD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32A-F8DC-43EC-A5E9-D1503CBD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48E-77ED-4B9B-8D14-D8061869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1D6-ABDF-4BE9-BAED-AC51EB41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CB3CD-307C-49A6-979B-62F6F4752F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