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65332"/>
        <c:axId val="78927917"/>
      </c:barChart>
      <c:catAx>
        <c:axId val="75265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7917"/>
        <c:crosses val="autoZero"/>
        <c:auto val="1"/>
        <c:lblAlgn val="ctr"/>
        <c:lblOffset val="100"/>
        <c:noMultiLvlLbl val="0"/>
      </c:catAx>
      <c:valAx>
        <c:axId val="78927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5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203-2D0C-44C9-B208-F6623CDC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383-40AA-4122-87FD-4058F0A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CA6-21BE-4D72-9532-1CB2EAF4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67E-3568-414E-908F-82A8BF1F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66E-3875-4C64-990E-05F538A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0E2-FEE9-4BAD-8C26-35E0E30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7C4-9D06-4962-BF31-BB8D828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C8D-78B6-4B68-BDD9-87DFC7C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241-DD7C-471D-90D1-F0617E38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B02-305D-45B4-9F2F-8791C26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D34-1F57-42CF-AED5-2E383B0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BFB-AE01-4318-9249-4091107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8E5B-E4FC-425E-876E-B97C23EAF0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