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7558472"/>
        <c:axId val="20101073"/>
      </c:barChart>
      <c:catAx>
        <c:axId val="2755847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101073"/>
        <c:crosses val="autoZero"/>
        <c:auto val="1"/>
        <c:lblAlgn val="ctr"/>
        <c:lblOffset val="100"/>
        <c:noMultiLvlLbl val="0"/>
      </c:catAx>
      <c:valAx>
        <c:axId val="2010107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55847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ADF7-F1D8-45AC-929A-EAB44EFE7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139F-A6F5-4267-8F40-EFC65AACC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70E8-E93D-4934-B78C-45ADA2A1E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A0C0-F8E3-4E23-8FC6-4ACB50C7E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F39D-7A9D-41AB-8D18-FD497D577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E22F-D4D9-4E79-B1A4-AF865E56B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143E-1FC8-4958-BA72-C01D87D50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2381-2230-410C-B7CE-C9C3710C6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8186-6662-4EE6-A29D-8636D7A7A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69E3-C23C-46AE-AA43-ECABE8C9E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50C9-9400-4FAF-B821-6DBC8E072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5A1D-7710-4228-94E9-55DDD94D8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E67AF1-D5DB-4788-AF0B-4C1455023EB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