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95765"/>
        <c:axId val="16348577"/>
      </c:barChart>
      <c:catAx>
        <c:axId val="56595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48577"/>
        <c:crosses val="autoZero"/>
        <c:auto val="1"/>
        <c:lblAlgn val="ctr"/>
        <c:lblOffset val="100"/>
        <c:noMultiLvlLbl val="0"/>
      </c:catAx>
      <c:valAx>
        <c:axId val="16348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95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364-6019-4E55-AF71-DA6F3F91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19F-021E-40A4-B9C6-04C37251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619-E045-4BE9-96FF-78497BA1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505-23A3-4844-8627-E54F2E08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268-014A-4A57-A8F7-B72BE413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EEB-96FA-47E4-A8A4-AF95F0A6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113-A21F-4654-9491-88B26C47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B1F-DE97-47BC-A950-C6A89637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968-D7C3-4E79-83D1-8C04A59E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E09-4091-40A7-BCA9-219B0A71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DC4-2F16-46F2-A356-ABAFD00D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878-7347-4A7B-87D5-EFFDA4FF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6CC2A-D914-422F-8E26-0323BD9474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