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7330"/>
        <c:axId val="15528904"/>
      </c:barChart>
      <c:catAx>
        <c:axId val="760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8904"/>
        <c:crosses val="autoZero"/>
        <c:auto val="1"/>
        <c:lblAlgn val="ctr"/>
        <c:lblOffset val="100"/>
        <c:noMultiLvlLbl val="0"/>
      </c:catAx>
      <c:valAx>
        <c:axId val="15528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69B-0EBE-4580-9B0D-06BB380E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9AF-E6FE-44A4-9827-7962331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2DA-5D3D-4746-9560-9086C29B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4C6-C693-47A7-9AD8-A7740D72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289-3FDC-45EF-BAD5-15EB02B4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D3C-8226-4CD3-8D5C-BD28930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013-5C78-4D8D-914B-E742B02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E32-1D5E-4CDB-B16D-2E8EA00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0FA-33A6-4A87-B923-1F521C0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656-9E0B-4DC4-A0CC-34B1D7F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30C-08A1-4A2D-8F1B-6D75B5B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695-410F-4FE7-B2AD-E86B3C6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B1B53-C01A-4A9F-8106-6B822AFAF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