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5605"/>
        <c:axId val="10753919"/>
      </c:barChart>
      <c:catAx>
        <c:axId val="74056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53919"/>
        <c:crosses val="autoZero"/>
        <c:auto val="1"/>
        <c:lblAlgn val="ctr"/>
        <c:lblOffset val="100"/>
        <c:noMultiLvlLbl val="0"/>
      </c:catAx>
      <c:valAx>
        <c:axId val="10753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56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AC3B-852D-48CD-8924-CEEFC5A3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D64-5B55-4616-96A3-B924C2F9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1F6-6A09-41C0-A7D2-60C958CF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A858-27EE-4FF5-814A-04AC4FE9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83A-7E3E-41DA-A7AB-33DC4CC2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118-5F67-4272-885B-9415B22E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BD96-4EDF-48B4-B13B-749A5D1E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764-3E0A-420F-A08A-8D0B91DC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EEFC-67E1-42C4-8F73-722DFD09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DB6-5C5C-4CA9-97CA-3101C276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9662-D38D-448F-9DEC-7F7C8817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FD0-9230-4F5F-B040-91D37FE7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CB513-CCF0-4F90-B1B4-B9631F8F2F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