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62580"/>
        <c:axId val="20365199"/>
      </c:barChart>
      <c:catAx>
        <c:axId val="31462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5199"/>
        <c:crosses val="autoZero"/>
        <c:auto val="1"/>
        <c:lblAlgn val="ctr"/>
        <c:lblOffset val="100"/>
        <c:noMultiLvlLbl val="0"/>
      </c:catAx>
      <c:valAx>
        <c:axId val="20365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62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04-4D1F-4A5B-9B5E-FE8543B5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2B4-28BC-4843-BDD9-7E1AE76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16D-7441-4360-9D55-05385930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1FA-CE04-48FA-8FF6-58FDC0A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511-C4DC-4252-BBD7-63BC0E0B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1BA-A437-44C8-9B3F-366688D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1C3-0077-4259-B0A2-10987F91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B25-20CE-4DC4-B72C-A3E1F4E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5BB-8E34-432C-8040-51DAB1F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5B1-4A6C-4410-A072-9214E15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6FB-FEC4-4956-AE7B-E1B76C4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3C2-C93B-46EC-A556-85F7AAB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46145-29BC-414E-96E1-06488673AF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