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73758"/>
        <c:axId val="99968008"/>
      </c:barChart>
      <c:catAx>
        <c:axId val="96773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68008"/>
        <c:crosses val="autoZero"/>
        <c:auto val="1"/>
        <c:lblAlgn val="ctr"/>
        <c:lblOffset val="100"/>
        <c:noMultiLvlLbl val="0"/>
      </c:catAx>
      <c:valAx>
        <c:axId val="99968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73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4EE-1718-43E1-ABB4-D020EACE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998-FD90-452C-ADD6-BF299CA3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40E-85FB-4BE5-BBFD-CF91C392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7F5-02F2-4CA6-A915-D4D09935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3E2-B76F-4FC0-9222-DE6FAFC1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2A8-5D50-4AF6-A7F4-05B42100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9F1-2309-430C-B28C-E9FC697B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4BC-8FEA-4FDA-B8FA-EA053606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91E-7F3F-4F54-B802-3B086093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16E-8097-4717-813B-A669DD8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564-3EC9-415B-92A1-98CE0B10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245-71ED-480F-BDB1-FAB8D6CE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130FC-22C9-4263-9BF2-DEE42321AC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