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15118"/>
        <c:axId val="26028199"/>
      </c:barChart>
      <c:catAx>
        <c:axId val="93315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28199"/>
        <c:crosses val="autoZero"/>
        <c:auto val="1"/>
        <c:lblAlgn val="ctr"/>
        <c:lblOffset val="100"/>
        <c:noMultiLvlLbl val="0"/>
      </c:catAx>
      <c:valAx>
        <c:axId val="26028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15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D6A-8306-450B-962A-7102E488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45A-D0D0-4954-8E78-18B7AE0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FF1-A662-4A59-98A0-BA2FB3C1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B68-5D47-4942-A8B2-3316079E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E01-ACB7-47B6-991F-619F299E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870-8169-442F-BF3F-2AA7B550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22E-1215-4E1D-B656-26284B1E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509-0B10-4BC9-9A21-DCCEB1CE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F70-CA34-4DFA-9101-1C19AD60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FE2-7D0B-44B0-9BA4-F08712A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CD9-7440-4764-81B2-FA00A003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3E4-F4C3-4C93-BAAB-66623CC5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89621-76F5-469C-8F5D-A2A5DED88A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