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10339"/>
        <c:axId val="93955061"/>
      </c:barChart>
      <c:catAx>
        <c:axId val="40210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55061"/>
        <c:crosses val="autoZero"/>
        <c:auto val="1"/>
        <c:lblAlgn val="ctr"/>
        <c:lblOffset val="100"/>
        <c:noMultiLvlLbl val="0"/>
      </c:catAx>
      <c:valAx>
        <c:axId val="93955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10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F81-F83B-4AE0-9BFB-3EBDE841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90B-E4A0-490C-B761-A2B1E95C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89E-3A1C-40BA-BDE3-806CDC61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FEC-0C9C-4F02-A526-7E7F9275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391-9A52-4518-A560-EE1D05B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AA3-E1EA-430D-8F2B-4401714E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AA0-8CFE-4A3C-BCB2-1BBE2F82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848-5332-413C-ADBD-56A3854E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338-C79D-4C8D-8E8F-B731FB62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5D2-425A-41CC-A2FB-88E6FA2E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0C5-E754-4F41-BF29-BC03F738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807-081A-4419-B01D-2E08BFB5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FDEF1-A28F-49B8-B0A8-6FA5178CC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