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58833"/>
        <c:axId val="61902209"/>
      </c:barChart>
      <c:catAx>
        <c:axId val="11758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02209"/>
        <c:crosses val="autoZero"/>
        <c:auto val="1"/>
        <c:lblAlgn val="ctr"/>
        <c:lblOffset val="100"/>
        <c:noMultiLvlLbl val="0"/>
      </c:catAx>
      <c:valAx>
        <c:axId val="61902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8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C24-84E3-4234-95D4-0CC0419F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33A-82A2-4186-993F-D38DE7FF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9A8-B809-41BB-BA52-92E524B9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E92-BBEC-4058-9F7F-349BDE7A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2EF-41E9-4C6E-BAC1-3C2F2749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96F-08F0-4E69-B4B8-33957758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216-B466-44C4-A52E-7E9AA41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FAD-17B3-41C6-8C57-A2349320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8C0-DC89-4213-9A31-D207380C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D67-1FCA-4E5B-92BF-382987B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7F1-030F-43DA-8108-D48F46A5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269-7537-473E-BD41-FEB592F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2052F-A52C-47D7-94CB-1001A9A324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