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44756"/>
        <c:axId val="42075964"/>
      </c:barChart>
      <c:catAx>
        <c:axId val="462447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75964"/>
        <c:crosses val="autoZero"/>
        <c:auto val="1"/>
        <c:lblAlgn val="ctr"/>
        <c:lblOffset val="100"/>
        <c:noMultiLvlLbl val="0"/>
      </c:catAx>
      <c:valAx>
        <c:axId val="420759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447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CEA2-E8AB-4882-B587-933E613F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077-EC72-402B-8DF4-50316E3E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90A-7540-4363-BBFB-433AFEE5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514-A448-4FEB-953C-73354352E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00E-0B34-405C-915C-418B0B7F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CDC-CB89-4EA2-9B55-E25F0500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022D-D8C5-4962-A847-1CB6D884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609-3553-4E78-AD0C-075CD19F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C623-7368-4DCD-B5C5-7E25D6B9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0AC-125C-4CC8-BC28-1635275D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7ECD-BE7A-409D-AAED-022C980A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AC1-8593-45A0-8AD1-E77AC695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2301A-1ED8-49E6-829A-D60EE5A0B9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