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51269"/>
        <c:axId val="29927388"/>
      </c:barChart>
      <c:catAx>
        <c:axId val="62451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27388"/>
        <c:crosses val="autoZero"/>
        <c:auto val="1"/>
        <c:lblAlgn val="ctr"/>
        <c:lblOffset val="100"/>
        <c:noMultiLvlLbl val="0"/>
      </c:catAx>
      <c:valAx>
        <c:axId val="29927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51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8AF7-7537-44EF-B6DA-BDA64611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227-119C-4809-BABD-8F2BC085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5489-FE84-4EC2-AE3C-3D3BBD3C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DAFD-51A0-4CB1-9E49-B0A06D398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A44-50CA-42CD-BD7F-56CD733D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63B9-69D6-45B8-A991-92AB425C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C7EE-B8CE-40FD-B0EF-57793295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0C7-BD49-45C3-B97A-8E5DF266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46DA-251B-4695-A412-D1C99061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D60B-EF50-40D4-9CDB-9FAC42CC8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CB98-101E-439A-A13E-E14B8C27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9D68-A548-41B4-9C5C-69BB5DA1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1AF11-8810-4982-B97C-E46519467A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