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899591"/>
        <c:axId val="41122776"/>
      </c:barChart>
      <c:catAx>
        <c:axId val="918995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122776"/>
        <c:crosses val="autoZero"/>
        <c:auto val="1"/>
        <c:lblAlgn val="ctr"/>
        <c:lblOffset val="100"/>
        <c:noMultiLvlLbl val="0"/>
      </c:catAx>
      <c:valAx>
        <c:axId val="411227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8995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CD0D-819E-4356-A46A-2A01D6BC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D822-0494-4E01-822A-6531E2B3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438C-8514-40FF-99A4-D1C8778BC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7B0E-E074-491B-A4F1-947BEA6E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F28E-FE64-4B81-ADAB-5560872F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ED10-7794-478C-8AED-14F93BE1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0DB2-E0D2-45F1-A095-06064221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323E-3297-4C6E-89E7-D88553FC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46FF-875E-4213-B581-DE88B6F2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F187-A70D-44D4-A791-463F3C42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FE49-BD1B-4B47-A747-97B2C363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5764-4466-47F2-9311-141B3E7D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4BB8B-34C2-496B-A9E0-53402DF8C8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