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6584"/>
        <c:axId val="60800990"/>
      </c:barChart>
      <c:catAx>
        <c:axId val="3686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00990"/>
        <c:crosses val="autoZero"/>
        <c:auto val="1"/>
        <c:lblAlgn val="ctr"/>
        <c:lblOffset val="100"/>
        <c:noMultiLvlLbl val="0"/>
      </c:catAx>
      <c:valAx>
        <c:axId val="60800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D8C-D907-44DB-B43C-6DA04712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2B3-113F-4923-9113-3F2CEF70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1D9-7331-490C-9B9E-1F1B0209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9B3-8883-40B9-89B8-B315C407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991-FE5F-48CA-9C1D-8D2D7F2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78D-6C58-4785-813C-DE28B3A7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8A2-F35A-4378-961F-B25D3FA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C09-627E-473D-8D9F-1FCF5165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B9B-AFD5-4340-BA05-DFEBF05F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558-DBD4-4323-A105-49BCC30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CEB-C354-4B0A-B2F4-E3E5354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649-489A-4621-8300-F4FFA55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E2E0C-04AF-48D0-9824-4596BED79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