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79279"/>
        <c:axId val="9331064"/>
      </c:barChart>
      <c:catAx>
        <c:axId val="80279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1064"/>
        <c:crosses val="autoZero"/>
        <c:auto val="1"/>
        <c:lblAlgn val="ctr"/>
        <c:lblOffset val="100"/>
        <c:noMultiLvlLbl val="0"/>
      </c:catAx>
      <c:valAx>
        <c:axId val="9331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79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1DC-CCA0-45BF-9747-6D1D861D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28D-6516-4562-939A-29E04A82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707-D8D7-42FA-A5FD-1688BE43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092-4DDA-40B2-B348-4ACA42D9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DD0-AD73-4345-B0AE-15C918A6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B39-7C6A-4805-A037-FAFE153B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842-706C-4BEC-A99F-3EB2B5C8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EE9-726B-439E-B2F4-724F6850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2A3-201F-4402-8259-FC884661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116-7920-4C3F-95EC-78815070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DF3-E3D3-48A6-93CF-8FC7E8A5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C78-21BA-4889-8619-3AD23252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072C7-52A5-4B23-842B-B6D2B47B28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