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31680"/>
        <c:axId val="59573342"/>
      </c:barChart>
      <c:catAx>
        <c:axId val="23131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73342"/>
        <c:crosses val="autoZero"/>
        <c:auto val="1"/>
        <c:lblAlgn val="ctr"/>
        <c:lblOffset val="100"/>
        <c:noMultiLvlLbl val="0"/>
      </c:catAx>
      <c:valAx>
        <c:axId val="59573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31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77A-C1A3-46B1-B113-930ADF10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43B-A61E-4D20-ACD0-8DA462F7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2FF-BE08-43F8-BE4E-C1C6B746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EA3-4DBE-46C8-ACC5-302FE057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A37-90F0-44AE-AE73-06591E78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3A1-D567-4B29-B383-6F7DD3B5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CD8-9AD9-4111-B0B7-994E5861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66F-7FC6-45BA-B087-324821B8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B73-E8E8-43D2-AD44-752FB306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7F5-63DF-445C-97C8-C540FBFC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20B-EF0C-4D98-8A87-D85DA8AC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D4D-4201-4B53-B2C0-32DED0E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DA517-100D-4EBF-B2BA-0ACBDF4912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