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76363"/>
        <c:axId val="51200104"/>
      </c:barChart>
      <c:catAx>
        <c:axId val="30976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00104"/>
        <c:crosses val="autoZero"/>
        <c:auto val="1"/>
        <c:lblAlgn val="ctr"/>
        <c:lblOffset val="100"/>
        <c:noMultiLvlLbl val="0"/>
      </c:catAx>
      <c:valAx>
        <c:axId val="51200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76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4E0-7750-4A47-88FA-C26FECC9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17D-546D-49AF-B8F8-D7BC8560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567-06AE-49B5-9D7E-50088854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741-7FB5-4BC8-B37C-B5FD38C1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37B-8985-4037-92C5-080561AA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609C-1F87-4E6E-8FD9-05AB8CDF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B546-D8B7-4C0E-9E68-000A186D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6F7-4491-4B27-9295-449ED352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B253-6869-40C9-8FBB-0CA1D629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BA7-9155-4E31-8827-679C909B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782-F739-4C2A-82A5-46D40EA4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5AE2-CC01-483B-AA3A-314D515F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36677-AFBD-4A94-8531-220E9ADD9E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