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19729"/>
        <c:axId val="4807875"/>
      </c:barChart>
      <c:catAx>
        <c:axId val="72319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7875"/>
        <c:crosses val="autoZero"/>
        <c:auto val="1"/>
        <c:lblAlgn val="ctr"/>
        <c:lblOffset val="100"/>
        <c:noMultiLvlLbl val="0"/>
      </c:catAx>
      <c:valAx>
        <c:axId val="4807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19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2BD-C979-4B1D-B1EE-DA9437EF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FBE-2E45-45A0-93CE-47EEAA99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54F-00E7-45B8-81BC-8498A96E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63D7-EC4D-4A90-B414-010E1430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0E0-E334-441E-BEC0-9EB62EA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734-01EC-4475-AEBB-0D4B1F8C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A36-0D91-4709-B27F-203BFFBF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EAC-1B27-4A76-8D08-DB5BE515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33EE-D047-40F3-8257-427CC2C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54A-23A5-4BED-9C94-C3063EDA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A6A-D92F-46F0-B54B-40EF27B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BD6-B4C5-4EB5-9CE3-93CE0E3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5D024-BD6C-425A-8D8A-971B9E192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