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94774"/>
        <c:axId val="41679035"/>
      </c:barChart>
      <c:catAx>
        <c:axId val="13894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79035"/>
        <c:crosses val="autoZero"/>
        <c:auto val="1"/>
        <c:lblAlgn val="ctr"/>
        <c:lblOffset val="100"/>
        <c:noMultiLvlLbl val="0"/>
      </c:catAx>
      <c:valAx>
        <c:axId val="41679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94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0B1-74EE-476C-A3F3-0D2DC696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E62-D091-433D-A18B-AE7AC501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CB6-F1AF-481E-8B96-F45D8F8E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899-4E20-459B-ABEF-52927790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2ED-BC09-45CF-B8FC-ACE35FB5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EDD-4D44-4623-993F-C059FFAA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8CD-2609-42FA-AFC2-FA3960A5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EA5-7D05-4E7E-9743-61C1F2CF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A63-FA62-450C-A44F-16F77DE5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62D-319A-4F2E-B0C5-6B6F93E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EEA-FA55-488F-A37E-C3E60AB4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86F-73B2-4975-8AC5-56FB9256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AFD13-E2A7-4A0B-9CAD-2060DEB6E2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