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26531"/>
        <c:axId val="76615125"/>
      </c:barChart>
      <c:catAx>
        <c:axId val="95626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15125"/>
        <c:crosses val="autoZero"/>
        <c:auto val="1"/>
        <c:lblAlgn val="ctr"/>
        <c:lblOffset val="100"/>
        <c:noMultiLvlLbl val="0"/>
      </c:catAx>
      <c:valAx>
        <c:axId val="76615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26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C8B-8CBD-41D0-8CFE-CF7D7F47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2A0-484C-49F6-8C72-0EB1D7CF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728-1F08-474F-B05B-9BCBEDAF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28D-554E-4A86-82F7-2E32B64C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672-9D95-4621-8392-945A0664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F5E-0C8D-40BF-A53A-8E3B2BE1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BA5-DF35-4AC9-BAD8-298583A4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588-727B-4908-A4C0-190EA13D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8F8-A436-426B-BE88-562DBB0D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233-2BCF-40E9-A009-6AA50F8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18A-DEA2-48B3-8DCF-B52B24E3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384-F489-436C-84CD-757006DF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AE2A7-9759-4074-97FE-CF4CC5DC1E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