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92901"/>
        <c:axId val="14574686"/>
      </c:barChart>
      <c:catAx>
        <c:axId val="37892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4686"/>
        <c:crosses val="autoZero"/>
        <c:auto val="1"/>
        <c:lblAlgn val="ctr"/>
        <c:lblOffset val="100"/>
        <c:noMultiLvlLbl val="0"/>
      </c:catAx>
      <c:valAx>
        <c:axId val="14574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92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79D-C796-447D-858D-D664F41B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75B-C20F-4C17-9F6D-8C3496C7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D45-BE4B-45BC-AD59-837E1EDC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1F6-56DC-4D2A-9F13-D6A868CB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40F-F976-4228-B657-D8C38D39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401-20F9-43FA-9F82-8DB67D85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5E8-B039-42F3-8A43-DF0289A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4ED-1F98-45A1-9B86-11C959C0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AE5-D82A-4F43-914B-253EDCF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0F9-F8DE-4A27-907C-E63BDFB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3B4-06F1-48EC-9974-A4F0E89F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6D3-6461-4EE1-A005-CBE8BAB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98126-D76A-4A29-8C69-98B1B0CA07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