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29379"/>
        <c:axId val="50287167"/>
      </c:barChart>
      <c:catAx>
        <c:axId val="12329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87167"/>
        <c:crosses val="autoZero"/>
        <c:auto val="1"/>
        <c:lblAlgn val="ctr"/>
        <c:lblOffset val="100"/>
        <c:noMultiLvlLbl val="0"/>
      </c:catAx>
      <c:valAx>
        <c:axId val="50287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9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B39-4D77-4552-BB93-0051C2EB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8EE-541E-487E-9757-63A9AC00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E51-3F3D-436E-8CDC-AA8BBE71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32E-FC5C-4F20-AB46-E2F555E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6FB-F3C8-4535-9864-0E06E7CD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4D4-241C-494E-9E7E-28DD870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604-A7A1-4CA5-AA0F-DA894FE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3B2-5D79-4C94-81CA-A9D921C1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260-60C2-4F99-B0EA-75F5898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8A0-76D2-4F08-915D-7F3417E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A0C-57AD-4BB2-A747-674B660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400-AFE9-4DB3-96CB-3204A32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30602-1450-4168-B482-BD79B5BD3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