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38386"/>
        <c:axId val="34788904"/>
      </c:barChart>
      <c:catAx>
        <c:axId val="13438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88904"/>
        <c:crosses val="autoZero"/>
        <c:auto val="1"/>
        <c:lblAlgn val="ctr"/>
        <c:lblOffset val="100"/>
        <c:noMultiLvlLbl val="0"/>
      </c:catAx>
      <c:valAx>
        <c:axId val="34788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38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1C5-5CDD-4D71-A927-696CCEC8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101-374F-4A39-90D9-52D1AAB3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320-A434-4B29-A3A9-DCAD97C4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ADD-60D2-4408-8265-82E4B9CD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3C5-49DD-4FF4-B892-6B20BAE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31B-0DF5-4BA5-A260-DC64EC0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4AC-A61A-44F2-A725-E94C0B9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26A-863A-4BC6-877C-DFFBE018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66C-109C-4D5F-8BE6-DA1EDB81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ECF-3BF6-4889-B093-3D9076A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FCD-20A5-44C4-BDEF-8EF3133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7CC-1DC9-4A82-8747-E61CBBD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C62CF-5576-4502-AFFF-E0AB245525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