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625328"/>
        <c:axId val="52904673"/>
      </c:barChart>
      <c:catAx>
        <c:axId val="30625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04673"/>
        <c:crosses val="autoZero"/>
        <c:auto val="1"/>
        <c:lblAlgn val="ctr"/>
        <c:lblOffset val="100"/>
        <c:noMultiLvlLbl val="0"/>
      </c:catAx>
      <c:valAx>
        <c:axId val="52904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25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0718-180D-4376-98EF-39CAF6A9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3A63-7794-4244-A7EC-D320E014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F311-005E-4C93-B1CA-B0C396B5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9194-306F-4CE6-9C2D-C9594C7D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A21-D5C5-44AB-B1B8-121698F7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0B86-A86A-4704-B044-88C2CD90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8443-5914-4331-8E47-5CC73CEB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5EF8-184F-4321-9BB2-43632747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CFC0-A2A3-402E-85E2-E3CEBD53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E8CA-E027-4BF3-AE8A-B890E2BE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A87F-95F6-457C-A150-A78FC464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E253-50E3-438E-A9D9-05B5BD92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0C554-1F80-4BD1-A1DB-0B13E12F0D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