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720129"/>
        <c:axId val="91252417"/>
      </c:barChart>
      <c:catAx>
        <c:axId val="867201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52417"/>
        <c:crosses val="autoZero"/>
        <c:auto val="1"/>
        <c:lblAlgn val="ctr"/>
        <c:lblOffset val="100"/>
        <c:noMultiLvlLbl val="0"/>
      </c:catAx>
      <c:valAx>
        <c:axId val="912524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7201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801B-1569-44AE-A6EB-783D0448A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C7A5-ABB3-4FE6-944A-920013A0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22B1-8389-4F63-99E5-7DCBE5F84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A9AC-52B4-4538-9829-8DCB6FD71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261C-0511-4F23-B1CD-D6C66AFB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940D-D5D0-496D-83A5-244D615C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39AD-0EA0-4539-B5CD-2A090AA0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2451-E54F-4B24-AAA1-93B5FA65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D821-96DE-42B1-AEA8-46AC64B0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B0FC-8E6A-4F07-A3C9-159616A2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55F5-5E69-4604-9851-5E58BF42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5A7B-6B98-4E86-982B-C7AD7C1B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E430B-D2B4-44AE-91EF-C91F659522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