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65612"/>
        <c:axId val="64136994"/>
      </c:barChart>
      <c:catAx>
        <c:axId val="82865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6994"/>
        <c:crosses val="autoZero"/>
        <c:auto val="1"/>
        <c:lblAlgn val="ctr"/>
        <c:lblOffset val="100"/>
        <c:noMultiLvlLbl val="0"/>
      </c:catAx>
      <c:valAx>
        <c:axId val="64136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5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1BF-FF74-4719-BDFD-043E8EF2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1C-64C7-49DA-B671-56E22B3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69B-5EF2-49EF-8539-D4B0A18D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D75-2A8D-4EB0-8F18-A421B6BB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94C-0A8E-47B6-B35E-51407BCA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1A9-D30D-43A7-B614-8E3D1A2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E8C-DF4C-47CC-835C-DE2CC0C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1EA-CBC6-473D-A10D-83E169A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9B2-FB04-4CF6-B4F7-40D5461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6A0-F5E5-4562-9F45-FEC126D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B79-562F-4090-8B5F-0E7699F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FAD-7CFC-4891-AF5A-01FEA9F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0A48E-F500-424B-8558-D36ACDBD8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