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67698"/>
        <c:axId val="74594361"/>
      </c:barChart>
      <c:catAx>
        <c:axId val="65867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94361"/>
        <c:crosses val="autoZero"/>
        <c:auto val="1"/>
        <c:lblAlgn val="ctr"/>
        <c:lblOffset val="100"/>
        <c:noMultiLvlLbl val="0"/>
      </c:catAx>
      <c:valAx>
        <c:axId val="74594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67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D03-A42F-465D-B287-41F94552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C1A-F3C9-4CE7-B346-9043AD2F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31B-C342-4EEB-8A65-5609E59C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071-D17A-4EC4-96AE-C37EC6AD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00B-FB28-4780-BE87-2CCCEFCC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4B9-F780-448F-8FE3-83F28E8F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7CE-5BC5-4B73-BE5F-419CCE61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644-3342-43EC-93D6-C0B57F85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E27-1E59-4B2B-88F8-2D07ED1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A7B-AFAE-456C-BF0D-2E39F989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F95-0047-4D3D-8AB2-837E628F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0DC-BFA4-41D3-A289-53A2531A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052FB-79E4-4E2B-97A3-0C1640F497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