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81208"/>
        <c:axId val="16765545"/>
      </c:barChart>
      <c:catAx>
        <c:axId val="98281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65545"/>
        <c:crosses val="autoZero"/>
        <c:auto val="1"/>
        <c:lblAlgn val="ctr"/>
        <c:lblOffset val="100"/>
        <c:noMultiLvlLbl val="0"/>
      </c:catAx>
      <c:valAx>
        <c:axId val="16765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81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1F7-0076-41DE-A561-FE058B41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61E-2115-444C-9324-32B8C6FF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361-BB5F-4044-BB77-9C2A721F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EC4-E5F1-45CF-AFDA-2B84D966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B32-E8F2-489E-B150-EEE6ECD8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9C1-8376-441A-82C2-CDEC0E4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7E8-6E6B-4ECA-93BB-089A6459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B68-A559-407E-9809-B61DFA53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70A-565F-41CB-B355-87D4A76E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159-1FBC-4779-8408-2C19C59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189-EE0C-4ABB-B31F-5D47B415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29B-B2DA-41B9-BE98-FCA6124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13EA0-009F-48B1-9A54-45A69D88AC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