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86591"/>
        <c:axId val="50101120"/>
      </c:barChart>
      <c:catAx>
        <c:axId val="41086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01120"/>
        <c:crosses val="autoZero"/>
        <c:auto val="1"/>
        <c:lblAlgn val="ctr"/>
        <c:lblOffset val="100"/>
        <c:noMultiLvlLbl val="0"/>
      </c:catAx>
      <c:valAx>
        <c:axId val="50101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86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E18-5C64-4B68-9B89-430E424A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8B1-47FE-402B-9224-9BA48938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7960-12CE-4BB3-8E5B-B16E7F58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457-2B92-422B-88CF-39992200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C8F-13DE-43C9-B66E-ED1D12F5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3C3-F457-4EDC-9F0D-C6F71D28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A50-4510-46C8-AC73-FB21543C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21D-2457-4B1E-A99D-1FD8DE7E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9B8-EBA2-4935-B831-3DBB9688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552-5F80-424A-8052-9A5CB264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736-B38E-4395-9DE3-DB5F70BD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D1F-A8DB-4F2C-B285-34670E5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24038-C10A-4C43-8C95-1F10A3B52A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