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131998"/>
        <c:axId val="1683151"/>
      </c:barChart>
      <c:catAx>
        <c:axId val="7813199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83151"/>
        <c:crosses val="autoZero"/>
        <c:auto val="1"/>
        <c:lblAlgn val="ctr"/>
        <c:lblOffset val="100"/>
        <c:noMultiLvlLbl val="0"/>
      </c:catAx>
      <c:valAx>
        <c:axId val="168315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13199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67E6D-EDC5-4607-BF1D-62199B4AF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A946-D851-4C31-8D61-42FB247B2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8DA58-74E0-44B8-8E2A-E3981B9D4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582E6-4D1C-4A08-B87E-63160B9B1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46C9E-8B91-437A-8ABE-A87EF398A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9724-CBE3-4F9A-9351-495E183DC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3DBC-442B-49AD-9B13-755C10BBE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0D7C5-B876-47E3-A9A3-37BC49B61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3FC9C-E1C5-4548-B6B6-813A5C59A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79C6B-B4DE-4317-AAB5-A03CB8D2D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68320-8150-40FA-9E2E-CD9580E66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6052-DD8F-4B9A-99CE-2C2DB1070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1825F9-2292-4EA0-B6C7-5D23DE7CE24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