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21587"/>
        <c:axId val="15449931"/>
      </c:barChart>
      <c:catAx>
        <c:axId val="60121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49931"/>
        <c:crosses val="autoZero"/>
        <c:auto val="1"/>
        <c:lblAlgn val="ctr"/>
        <c:lblOffset val="100"/>
        <c:noMultiLvlLbl val="0"/>
      </c:catAx>
      <c:valAx>
        <c:axId val="15449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21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DBF-836C-4F30-9A77-5CCDED5F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939-5D29-41A0-9B03-AA606F7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204-5267-4BAD-9BC2-2827463E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3BA-5020-4F11-ABBC-BE99F8AF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806-30EF-44E0-B4C3-1DD96F5E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EC9-678E-4492-921A-4406E00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896-6B3E-4B22-ADC9-EE42E871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9F1-38CD-4378-98BE-74C42591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49B-EC4C-4861-B401-60EE8CFF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1F8-8D10-4528-AEEF-327236C8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3EE-6757-4514-B824-BE704C1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8DD-D615-4A9B-ADEC-8986908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0204A-C3C1-462A-B8F2-E04214BE46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