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57327"/>
        <c:axId val="58606418"/>
      </c:barChart>
      <c:catAx>
        <c:axId val="94857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06418"/>
        <c:crosses val="autoZero"/>
        <c:auto val="1"/>
        <c:lblAlgn val="ctr"/>
        <c:lblOffset val="100"/>
        <c:noMultiLvlLbl val="0"/>
      </c:catAx>
      <c:valAx>
        <c:axId val="58606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57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874-AE56-4B61-8F17-61BD8592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167F-DB38-4EC6-BEA1-1177AE81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4890-2253-4947-B0B7-378AF846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57B3-DAF8-4C2C-ADCC-0728B768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AF2-4183-4921-9F1B-24E71324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131C-ED9A-471E-9419-C376638A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6756-135F-41F7-A2D4-E76FE2FC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66E5-E4E5-4272-920B-43BDDA5C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748-BC35-483F-B234-99CA4C6E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241C-EA3E-406A-96E9-5031131F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7538-2A58-4261-9333-0A037A8D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7464-116C-4975-A5D8-B252F289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EE236-B7ED-4828-B62B-B3434A9D18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