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46424"/>
        <c:axId val="11363046"/>
      </c:barChart>
      <c:catAx>
        <c:axId val="526464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63046"/>
        <c:crosses val="autoZero"/>
        <c:auto val="1"/>
        <c:lblAlgn val="ctr"/>
        <c:lblOffset val="100"/>
        <c:noMultiLvlLbl val="0"/>
      </c:catAx>
      <c:valAx>
        <c:axId val="11363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464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5AD-1F14-4E22-BA30-54E4BFA4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D59-67CE-4CDB-B0F5-3336B4F7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5DC-0DF2-4BD5-99EC-695968CA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C73-A66C-484B-A929-AB8AEECE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8A3-3DC6-4E74-831E-A695D1D4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73B-55CF-4223-8872-B209BFEE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4D9-F11A-48F2-85E3-1BB58F77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46A-16DA-4ADD-A013-FCB5F165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FD09-20C3-419B-BB3A-D6A33417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614-FF7A-4DF4-8173-CD3C1D7B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5758-07F9-415F-80D4-B8C138AA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B077-7D17-4F25-9446-E2AD0775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00C7B-2BDB-491F-B3C5-985C59D7A2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