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473680"/>
        <c:axId val="64980544"/>
      </c:barChart>
      <c:catAx>
        <c:axId val="914736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80544"/>
        <c:crosses val="autoZero"/>
        <c:auto val="1"/>
        <c:lblAlgn val="ctr"/>
        <c:lblOffset val="100"/>
        <c:noMultiLvlLbl val="0"/>
      </c:catAx>
      <c:valAx>
        <c:axId val="649805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736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8B27-F7AC-41AD-8AF5-3159C735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6772-B460-42E6-AC31-6F0165D8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F053-D8EF-4051-90B9-E4198E94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00EF-ECE6-4CAD-A2D4-6A2A10AA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989A-5D8F-4540-8595-0C04A130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5EDD-84B9-4A10-9FAE-B0666A47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8E8D-CB69-451A-B7FF-49A3FD68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64AE-A0A1-407A-B062-ACC1EFB1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AC36-DF59-496B-B691-3C6D4C26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8CF4-93C1-4DF8-B6B5-C310D113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B11E-CF03-4624-8986-E35F2C3A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8071-27D2-4011-853D-0515D7D1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8AD55-30AF-47EA-8D07-3F9D053104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