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17164"/>
        <c:axId val="93489220"/>
      </c:barChart>
      <c:catAx>
        <c:axId val="10517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89220"/>
        <c:crosses val="autoZero"/>
        <c:auto val="1"/>
        <c:lblAlgn val="ctr"/>
        <c:lblOffset val="100"/>
        <c:noMultiLvlLbl val="0"/>
      </c:catAx>
      <c:valAx>
        <c:axId val="93489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17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98F-A48E-4F13-9360-66E11017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551-78BC-42A9-8E90-DE67AADD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718-EBA3-42B4-A842-2099E8C7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4C7-2811-4262-959E-31E1F6A0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603-0385-47A4-A6A2-45732AC5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599-7D72-49A7-BD0B-73EEA475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D7E-A7B0-4427-AE55-1FF3AD5D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8C6-FCFF-4623-8F63-F7550EDC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998-1F7D-4882-93AA-F9A062A7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C17-CEBF-4F2A-9EAF-454E1ECA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605-C3B0-4E12-B64A-7A6503F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5D5-1F4E-45B2-9D78-94625FB0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EC021-6DD3-4ABC-A46A-86BF3C160A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