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37276"/>
        <c:axId val="80647079"/>
      </c:barChart>
      <c:catAx>
        <c:axId val="48537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7079"/>
        <c:crosses val="autoZero"/>
        <c:auto val="1"/>
        <c:lblAlgn val="ctr"/>
        <c:lblOffset val="100"/>
        <c:noMultiLvlLbl val="0"/>
      </c:catAx>
      <c:valAx>
        <c:axId val="80647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37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F98-2485-4852-B76B-D1AC21DE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87D-1948-4358-9317-00F607C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8DD-3CDF-45E7-B776-EF41D6E5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35E-0AC7-492F-9E33-55EEB0FD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9AD-1C5A-4FE4-BF0D-C5EEE5F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B94-2679-466F-BCDC-544CC3C3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AD1-F38D-46F4-A4B5-8CA6792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64F-E82E-4C08-A767-6B292809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BD2-36A5-43F7-B892-FA6324A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ECA-1365-4BD0-921C-27DA4AD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4CA-40E9-4785-B027-0777FD8F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FDE-F4CF-4402-8165-99821DA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9852C-1CEE-45E8-B3BF-9C2D607BB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