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33620"/>
        <c:axId val="21914635"/>
      </c:barChart>
      <c:catAx>
        <c:axId val="40133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14635"/>
        <c:crosses val="autoZero"/>
        <c:auto val="1"/>
        <c:lblAlgn val="ctr"/>
        <c:lblOffset val="100"/>
        <c:noMultiLvlLbl val="0"/>
      </c:catAx>
      <c:valAx>
        <c:axId val="21914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33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E8B-3AA1-4428-A626-209F9EED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EDB-A3A3-4870-9FD8-251C2A2B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FF0-977C-459C-966A-26357D5F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36A-49E4-484A-816D-79DA56BC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545-86CB-474F-B8AE-71C31D58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941-F157-4970-A86F-8E0B75F1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969-A789-42C6-8A63-F2558369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C38-3926-4B0B-A012-E9B3C17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208-BC1E-442A-848C-BCBF21C5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461-CED2-407A-B9BB-6582AA7E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215-906F-432C-B39E-C5E55A6F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696-E165-4627-AF1D-72A2A138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1215C-01D7-4DFF-8A0E-6F3F39B7AC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