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355464"/>
        <c:axId val="12982581"/>
      </c:barChart>
      <c:catAx>
        <c:axId val="383554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982581"/>
        <c:crosses val="autoZero"/>
        <c:auto val="1"/>
        <c:lblAlgn val="ctr"/>
        <c:lblOffset val="100"/>
        <c:noMultiLvlLbl val="0"/>
      </c:catAx>
      <c:valAx>
        <c:axId val="129825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3554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2CC2-0C0C-46DD-B5D7-1A5D68AF9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24A9-4C96-47ED-B383-81A6999CC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5E82-AAA9-4B09-ABFF-12CD2931F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A3F8-13A6-486F-AEBD-00A49ACA4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CD5F-2822-47C1-B422-9F516B792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E9AE-81E3-43A1-AE87-134C7B57A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3F1B-D29D-44E5-94A7-D9175DFB4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4457-68B4-43C9-B996-BB220F9EE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B4E8-935D-4766-A8D1-10D463BE4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0739-164C-4192-AD80-34FF8ECC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C89C-E84B-4D90-A0E0-469012C8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FEA5-2AF9-4C28-8032-26EDEF0E9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DD111D-E984-4A0C-9C22-2313BA73B33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