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96581"/>
        <c:axId val="45513637"/>
      </c:barChart>
      <c:catAx>
        <c:axId val="98096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13637"/>
        <c:crosses val="autoZero"/>
        <c:auto val="1"/>
        <c:lblAlgn val="ctr"/>
        <c:lblOffset val="100"/>
        <c:noMultiLvlLbl val="0"/>
      </c:catAx>
      <c:valAx>
        <c:axId val="45513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96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5B9-0C00-4BA6-936B-25A39062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347-F0E1-48DB-A2DE-001E70DB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1C5-223B-4724-992F-1B423E3F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3B5-9675-4A29-B8D9-6E965377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0CB-120F-47F6-AF24-DAC5994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386-3D96-40F1-ACF1-5C6D08A7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86B-2084-4407-84B6-A89D0D99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7CB-C1ED-4095-B661-91A15328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D7C-5568-445A-9543-936C454A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CBB-39B6-4BAD-8B2B-2F6EA641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CBB-9DCB-4286-8E2C-D824D63C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70D-6E14-4B0E-BFB8-5A694B3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83DDF-86B0-4642-BDCD-8F1A4DCD22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