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0210274"/>
        <c:axId val="16609053"/>
      </c:barChart>
      <c:catAx>
        <c:axId val="9021027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609053"/>
        <c:crosses val="autoZero"/>
        <c:auto val="1"/>
        <c:lblAlgn val="ctr"/>
        <c:lblOffset val="100"/>
        <c:noMultiLvlLbl val="0"/>
      </c:catAx>
      <c:valAx>
        <c:axId val="1660905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21027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67380-9680-4831-AF57-DDBCB944C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D60CD-6C41-4637-BD69-A0EC4F489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204CF-13C5-4595-86F0-1C189B8D7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ACC76-7890-4E33-993D-FF164018A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9F7B4-4141-4AD3-9FE0-3BEC1EB16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8842B-87E9-4961-B830-222293176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95C49-295F-480B-BC9A-6F76811E1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3C817-AE1A-43E8-8B0F-0E8B403D1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43B93-779B-4AA0-A8FF-482D88231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F328D-AA4A-4CFF-BF5A-5953B1F51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C37C4-2836-4B58-81A0-E487392FB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6268D-AB15-455D-9616-998443A88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19C11A-6F34-412F-92E5-53F71BDB21D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