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30373"/>
        <c:axId val="22543167"/>
      </c:barChart>
      <c:catAx>
        <c:axId val="9013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3167"/>
        <c:crosses val="autoZero"/>
        <c:auto val="1"/>
        <c:lblAlgn val="ctr"/>
        <c:lblOffset val="100"/>
        <c:noMultiLvlLbl val="0"/>
      </c:catAx>
      <c:valAx>
        <c:axId val="22543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3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D07-FDFA-4703-B434-09D317F5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70A-9650-45C9-8FF8-FFF85A0D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879-0F9A-48FD-93DB-08585BA2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DBB-8003-40C7-90E4-DDB16A70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B88-04A0-4F2C-A172-F7E37178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FE4-F819-4E6F-B805-D0D8FCF9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728-2A4F-4AA9-B1D7-2941D0E6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5F7-B4B8-40A5-B327-76163FB1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69A-E7A2-4D66-BEAB-3F0516D2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127-A9B2-44CF-B306-75D8D23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968-1600-47BD-85E3-92EBF32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740-8FF5-4D35-8A68-D0D4526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1F80-64FB-4EFD-B2D4-CBA523A4BB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