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48079"/>
        <c:axId val="90019765"/>
      </c:barChart>
      <c:catAx>
        <c:axId val="96448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19765"/>
        <c:crosses val="autoZero"/>
        <c:auto val="1"/>
        <c:lblAlgn val="ctr"/>
        <c:lblOffset val="100"/>
        <c:noMultiLvlLbl val="0"/>
      </c:catAx>
      <c:valAx>
        <c:axId val="90019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48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924-4E0F-41AE-97D8-1F627D32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D71-9CEA-400E-A53A-10BB392E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7F1-8227-42BE-B705-279BBECA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6B2-87E1-41B2-83D8-B65CDE8D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445-6E6E-4C94-8D3B-B17BD8FE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080-8C34-4218-977F-79E3A0D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402-C9A4-4FEC-9941-E14891B1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5C1-F31A-4EC2-A298-DC5E6F25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62C-4C86-4D81-8852-B93551B2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84E-14AF-49DA-9F07-714BB91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D11-6587-4961-B069-668E883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45D-3B29-4A15-9303-8794EDC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F8B20-7D36-4A92-A729-20D49C5D89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